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5737-74B6-41F5-BCD4-ABF2700D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4F18-08E5-4178-BE30-CE450E35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566-2ED5-416C-AB4D-EE34D2F9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35C-8228-4CF8-B3F5-19AFEBCA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F8B-A198-4786-98C8-47B4142A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4C42-D4CB-4A0B-825D-A01D78C2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3F4-F1CD-4FEA-B2E3-AC43EC05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B31-901F-41D9-BBDB-BE81FF8B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37A-FEAE-4C78-AF40-03355FC1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59C-7091-448A-B766-2B363527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EB5-F5B4-4248-ABC8-F8C3E737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CCC-A976-4C47-AA71-D3AFF3AA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91B6-5913-4A83-8A7B-41175783A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1143000"/>
            <a:ext cx="583236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9280" y="115920"/>
            <a:ext cx="4463640" cy="950400"/>
            <a:chOff x="179280" y="115920"/>
            <a:chExt cx="4463640" cy="950400"/>
          </a:xfrm>
        </p:grpSpPr>
        <p:sp>
          <p:nvSpPr>
            <p:cNvPr id="43" name=""/>
            <p:cNvSpPr/>
            <p:nvPr/>
          </p:nvSpPr>
          <p:spPr>
            <a:xfrm>
              <a:off x="181800" y="195480"/>
              <a:ext cx="446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UNIDAD 2: LA NUTRICIÓN EN LAS PLAN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9280" y="115920"/>
              <a:ext cx="4337280" cy="95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3038400" y="12654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El alimento de las pla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38400" y="16128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a foto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38400" y="1973160"/>
            <a:ext cx="50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Transporte en el interior de las pla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6040" y="23320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Respiración en las pla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266688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a respiración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38400" y="3063960"/>
            <a:ext cx="488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Órganos que colaboran en la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38400" y="34606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Formas de nutr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66680" y="4191120"/>
            <a:ext cx="5715000" cy="2361600"/>
            <a:chOff x="1066680" y="4191120"/>
            <a:chExt cx="5715000" cy="23616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066680" y="4198680"/>
              <a:ext cx="5707080" cy="23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066680" y="4191120"/>
              <a:ext cx="5715000" cy="236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19280" y="42840"/>
            <a:ext cx="561672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ÓRGANOS QUE COLABORAN EN LA NUTR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36680" y="1401840"/>
            <a:ext cx="3319200" cy="1581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768840" y="1335240"/>
            <a:ext cx="2157120" cy="4462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973920" y="1876320"/>
            <a:ext cx="1855800" cy="2949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1469880" y="3252960"/>
            <a:ext cx="1573200" cy="263808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2422440" y="3377880"/>
            <a:ext cx="2531880" cy="2457720"/>
            <a:chOff x="2422440" y="3377880"/>
            <a:chExt cx="2531880" cy="2457720"/>
          </a:xfrm>
        </p:grpSpPr>
        <p:sp>
          <p:nvSpPr>
            <p:cNvPr id="233" name=""/>
            <p:cNvSpPr/>
            <p:nvPr/>
          </p:nvSpPr>
          <p:spPr>
            <a:xfrm>
              <a:off x="4761000" y="5187960"/>
              <a:ext cx="193320" cy="20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2668680" y="3377880"/>
              <a:ext cx="2092320" cy="180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2422440" y="5397480"/>
              <a:ext cx="2338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795920" y="2254320"/>
            <a:ext cx="2444400" cy="2361600"/>
            <a:chOff x="4795920" y="2254320"/>
            <a:chExt cx="2444400" cy="2361600"/>
          </a:xfrm>
        </p:grpSpPr>
        <p:sp>
          <p:nvSpPr>
            <p:cNvPr id="237" name=""/>
            <p:cNvSpPr/>
            <p:nvPr/>
          </p:nvSpPr>
          <p:spPr>
            <a:xfrm>
              <a:off x="4795920" y="3016080"/>
              <a:ext cx="263880" cy="266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059800" y="2254320"/>
              <a:ext cx="216324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9800" y="3282480"/>
              <a:ext cx="2180520" cy="13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038040" y="1415880"/>
            <a:ext cx="1036800" cy="1143000"/>
            <a:chOff x="3038040" y="1415880"/>
            <a:chExt cx="1036800" cy="1143000"/>
          </a:xfrm>
        </p:grpSpPr>
        <p:sp>
          <p:nvSpPr>
            <p:cNvPr id="241" name=""/>
            <p:cNvSpPr/>
            <p:nvPr/>
          </p:nvSpPr>
          <p:spPr>
            <a:xfrm>
              <a:off x="3881880" y="1587240"/>
              <a:ext cx="19296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3038040" y="1415880"/>
              <a:ext cx="84348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741120" y="1739520"/>
              <a:ext cx="140400" cy="81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390400" y="2562840"/>
            <a:ext cx="1514520" cy="808920"/>
            <a:chOff x="2390400" y="2562840"/>
            <a:chExt cx="1514520" cy="808920"/>
          </a:xfrm>
        </p:grpSpPr>
        <p:sp>
          <p:nvSpPr>
            <p:cNvPr id="245" name=""/>
            <p:cNvSpPr/>
            <p:nvPr/>
          </p:nvSpPr>
          <p:spPr>
            <a:xfrm rot="19710600">
              <a:off x="2489040" y="2637000"/>
              <a:ext cx="425520" cy="498240"/>
            </a:xfrm>
            <a:prstGeom prst="upArrow">
              <a:avLst>
                <a:gd name="adj1" fmla="val 36593"/>
                <a:gd name="adj2" fmla="val 49356"/>
              </a:avLst>
            </a:prstGeom>
            <a:solidFill>
              <a:srgbClr val="0e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27640" y="2851560"/>
              <a:ext cx="1277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Gases atmosfér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857160" y="1143720"/>
            <a:ext cx="1036080" cy="627120"/>
            <a:chOff x="857160" y="1143720"/>
            <a:chExt cx="1036080" cy="627120"/>
          </a:xfrm>
        </p:grpSpPr>
        <p:sp>
          <p:nvSpPr>
            <p:cNvPr id="248" name=""/>
            <p:cNvSpPr/>
            <p:nvPr/>
          </p:nvSpPr>
          <p:spPr>
            <a:xfrm flipH="1" rot="7289400">
              <a:off x="1353600" y="1199160"/>
              <a:ext cx="419040" cy="516240"/>
            </a:xfrm>
            <a:prstGeom prst="upArrow">
              <a:avLst>
                <a:gd name="adj1" fmla="val 36593"/>
                <a:gd name="adj2" fmla="val 5193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57160" y="1195920"/>
              <a:ext cx="5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Lu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495600" y="123804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H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41840" y="5067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RAÍ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299052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A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04720" y="4196880"/>
            <a:ext cx="1055880" cy="651240"/>
            <a:chOff x="504720" y="4196880"/>
            <a:chExt cx="1055880" cy="651240"/>
          </a:xfrm>
        </p:grpSpPr>
        <p:sp>
          <p:nvSpPr>
            <p:cNvPr id="254" name=""/>
            <p:cNvSpPr/>
            <p:nvPr/>
          </p:nvSpPr>
          <p:spPr>
            <a:xfrm>
              <a:off x="504720" y="4327920"/>
              <a:ext cx="105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elos radi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015200" y="4196880"/>
              <a:ext cx="51048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666520" y="4420080"/>
            <a:ext cx="1074960" cy="513000"/>
            <a:chOff x="2666520" y="4420080"/>
            <a:chExt cx="1074960" cy="513000"/>
          </a:xfrm>
        </p:grpSpPr>
        <p:sp>
          <p:nvSpPr>
            <p:cNvPr id="257" name=""/>
            <p:cNvSpPr/>
            <p:nvPr/>
          </p:nvSpPr>
          <p:spPr>
            <a:xfrm rot="15192600">
              <a:off x="2775600" y="4486320"/>
              <a:ext cx="312840" cy="460440"/>
            </a:xfrm>
            <a:prstGeom prst="upArrow">
              <a:avLst>
                <a:gd name="adj1" fmla="val 36593"/>
                <a:gd name="adj2" fmla="val 62040"/>
              </a:avLst>
            </a:prstGeom>
            <a:solidFill>
              <a:srgbClr val="0e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54960" y="4420080"/>
              <a:ext cx="686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515320" y="4907160"/>
            <a:ext cx="1437480" cy="645840"/>
            <a:chOff x="2515320" y="4907160"/>
            <a:chExt cx="1437480" cy="645840"/>
          </a:xfrm>
        </p:grpSpPr>
        <p:sp>
          <p:nvSpPr>
            <p:cNvPr id="260" name=""/>
            <p:cNvSpPr/>
            <p:nvPr/>
          </p:nvSpPr>
          <p:spPr>
            <a:xfrm rot="18571800">
              <a:off x="2635560" y="4943880"/>
              <a:ext cx="312840" cy="460080"/>
            </a:xfrm>
            <a:prstGeom prst="upArrow">
              <a:avLst>
                <a:gd name="adj1" fmla="val 36593"/>
                <a:gd name="adj2" fmla="val 61992"/>
              </a:avLst>
            </a:prstGeom>
            <a:solidFill>
              <a:srgbClr val="0e8d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50560" y="503280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Sales miner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676920" y="1567440"/>
            <a:ext cx="827280" cy="610560"/>
            <a:chOff x="6676920" y="1567440"/>
            <a:chExt cx="827280" cy="610560"/>
          </a:xfrm>
        </p:grpSpPr>
        <p:sp>
          <p:nvSpPr>
            <p:cNvPr id="263" name=""/>
            <p:cNvSpPr/>
            <p:nvPr/>
          </p:nvSpPr>
          <p:spPr>
            <a:xfrm>
              <a:off x="6676920" y="156744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Flo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99200" y="1816200"/>
              <a:ext cx="33444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978680" y="1510200"/>
            <a:ext cx="827280" cy="744120"/>
            <a:chOff x="7978680" y="1510200"/>
            <a:chExt cx="827280" cy="744120"/>
          </a:xfrm>
        </p:grpSpPr>
        <p:sp>
          <p:nvSpPr>
            <p:cNvPr id="266" name=""/>
            <p:cNvSpPr/>
            <p:nvPr/>
          </p:nvSpPr>
          <p:spPr>
            <a:xfrm>
              <a:off x="7978680" y="151020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Xil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8207280" y="1758960"/>
              <a:ext cx="175680" cy="49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24000" y="549360"/>
            <a:ext cx="5040000" cy="5806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ercambian gases de la respiración y la fotosíntesis Hacen la transpiración y la fotosín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64000" y="4916520"/>
            <a:ext cx="3672000" cy="5806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ransporta la savia bruta y elaborada Fotosíntesis y almacé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" y="5997600"/>
            <a:ext cx="2232000" cy="5806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bsorbe agua y sales Transporte y almacé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916360" y="42840"/>
            <a:ext cx="302400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ORMAS DE NUTR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98800" y="476280"/>
            <a:ext cx="5327640" cy="2232000"/>
          </a:xfrm>
          <a:prstGeom prst="rightArrowCallout">
            <a:avLst>
              <a:gd name="adj1" fmla="val 22224"/>
              <a:gd name="adj2" fmla="val 25000"/>
              <a:gd name="adj3" fmla="val 55087"/>
              <a:gd name="adj4" fmla="val 6874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78640" y="1450080"/>
            <a:ext cx="1490760" cy="531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 de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UTR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92360" y="622440"/>
            <a:ext cx="3971520" cy="909360"/>
            <a:chOff x="1692360" y="622440"/>
            <a:chExt cx="3971520" cy="909360"/>
          </a:xfrm>
        </p:grpSpPr>
        <p:sp>
          <p:nvSpPr>
            <p:cNvPr id="275" name=""/>
            <p:cNvSpPr/>
            <p:nvPr/>
          </p:nvSpPr>
          <p:spPr>
            <a:xfrm>
              <a:off x="2190240" y="622440"/>
              <a:ext cx="3473640" cy="7506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: para mantener y renovar sus estructuras, crecer y reproducir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692360" y="941400"/>
              <a:ext cx="5454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697040" y="1295280"/>
            <a:ext cx="3987360" cy="1174680"/>
            <a:chOff x="1697040" y="1295280"/>
            <a:chExt cx="3987360" cy="1174680"/>
          </a:xfrm>
        </p:grpSpPr>
        <p:sp>
          <p:nvSpPr>
            <p:cNvPr id="278" name=""/>
            <p:cNvSpPr/>
            <p:nvPr/>
          </p:nvSpPr>
          <p:spPr>
            <a:xfrm>
              <a:off x="2197080" y="1719360"/>
              <a:ext cx="3487320" cy="7506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: para realizar sus actividades, moverse o intercambiar sustancias con el medi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97040" y="1295280"/>
              <a:ext cx="525600" cy="7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16000" y="882000"/>
            <a:ext cx="1692000" cy="96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 SERES VIVOS necesitan los nutrientes pa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48040" y="140976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obtienen 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71640" y="3162240"/>
            <a:ext cx="1800000" cy="368280"/>
            <a:chOff x="971640" y="3162240"/>
            <a:chExt cx="1800000" cy="368280"/>
          </a:xfrm>
        </p:grpSpPr>
        <p:sp>
          <p:nvSpPr>
            <p:cNvPr id="283" name=""/>
            <p:cNvSpPr/>
            <p:nvPr/>
          </p:nvSpPr>
          <p:spPr>
            <a:xfrm>
              <a:off x="990720" y="3197160"/>
              <a:ext cx="1565280" cy="29844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71640" y="316224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UTÓTR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940360" y="3162240"/>
            <a:ext cx="2016360" cy="368280"/>
            <a:chOff x="5940360" y="3162240"/>
            <a:chExt cx="2016360" cy="368280"/>
          </a:xfrm>
        </p:grpSpPr>
        <p:sp>
          <p:nvSpPr>
            <p:cNvPr id="286" name=""/>
            <p:cNvSpPr/>
            <p:nvPr/>
          </p:nvSpPr>
          <p:spPr>
            <a:xfrm>
              <a:off x="5959440" y="3197160"/>
              <a:ext cx="1852560" cy="29844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40360" y="316224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HETERÓTROF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871280" y="2009880"/>
            <a:ext cx="6353640" cy="1171440"/>
            <a:chOff x="1871280" y="2009880"/>
            <a:chExt cx="6353640" cy="1171440"/>
          </a:xfrm>
        </p:grpSpPr>
        <p:cxnSp>
          <p:nvCxnSpPr>
            <p:cNvPr id="289" name=""/>
            <p:cNvCxnSpPr>
              <a:stCxn id="273" idx="2"/>
              <a:endCxn id="284" idx="0"/>
            </p:cNvCxnSpPr>
            <p:nvPr/>
          </p:nvCxnSpPr>
          <p:spPr>
            <a:xfrm rot="5400000">
              <a:off x="4471200" y="-590400"/>
              <a:ext cx="1153440" cy="6354000"/>
            </a:xfrm>
            <a:prstGeom prst="bentConnector3">
              <a:avLst>
                <a:gd name="adj1" fmla="val 833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6877080" y="29656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911280" y="26510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ede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4920" y="3525840"/>
            <a:ext cx="4680000" cy="1271520"/>
            <a:chOff x="34920" y="3525840"/>
            <a:chExt cx="4680000" cy="1271520"/>
          </a:xfrm>
        </p:grpSpPr>
        <p:sp>
          <p:nvSpPr>
            <p:cNvPr id="293" name=""/>
            <p:cNvSpPr/>
            <p:nvPr/>
          </p:nvSpPr>
          <p:spPr>
            <a:xfrm>
              <a:off x="55440" y="3548160"/>
              <a:ext cx="4587840" cy="124920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920" y="3525840"/>
              <a:ext cx="4680000" cy="12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Se produce materia orgánica rica en energía a partir de materia inorgánic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Típica de las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lantas, algas y algunas bacteria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, la realizan por medio de la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fotosíntesi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captando energía sola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11640" y="3556080"/>
            <a:ext cx="4356360" cy="1079280"/>
            <a:chOff x="5111640" y="3556080"/>
            <a:chExt cx="4356360" cy="1079280"/>
          </a:xfrm>
        </p:grpSpPr>
        <p:sp>
          <p:nvSpPr>
            <p:cNvPr id="296" name=""/>
            <p:cNvSpPr/>
            <p:nvPr/>
          </p:nvSpPr>
          <p:spPr>
            <a:xfrm>
              <a:off x="5132520" y="3578400"/>
              <a:ext cx="3867120" cy="10569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11640" y="3556080"/>
              <a:ext cx="435636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Se alimentan a partir de materia orgánica fabricada por otros seres vivo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alizada por hongos, animales, protozoos y muchas bacter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755640" y="4951440"/>
            <a:ext cx="2665440" cy="186228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5291280" y="4805280"/>
            <a:ext cx="3312720" cy="1936440"/>
            <a:chOff x="5291280" y="4805280"/>
            <a:chExt cx="3312720" cy="1936440"/>
          </a:xfrm>
        </p:grpSpPr>
        <p:pic>
          <p:nvPicPr>
            <p:cNvPr id="300" name="Falsa_Oronja" descr="Ampliar imagen"/>
            <p:cNvPicPr/>
            <p:nvPr/>
          </p:nvPicPr>
          <p:blipFill>
            <a:blip r:embed="rId4"/>
            <a:stretch/>
          </p:blipFill>
          <p:spPr>
            <a:xfrm>
              <a:off x="6238800" y="5730480"/>
              <a:ext cx="102924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5291280" y="5673600"/>
              <a:ext cx="916920" cy="76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6"/>
            <a:stretch/>
          </p:blipFill>
          <p:spPr>
            <a:xfrm>
              <a:off x="5357880" y="4805280"/>
              <a:ext cx="90972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7"/>
            <a:stretch/>
          </p:blipFill>
          <p:spPr>
            <a:xfrm>
              <a:off x="6370920" y="4811760"/>
              <a:ext cx="1132560" cy="8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8"/>
            <a:stretch/>
          </p:blipFill>
          <p:spPr>
            <a:xfrm>
              <a:off x="7689960" y="4811760"/>
              <a:ext cx="673200" cy="9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7374240" y="5845680"/>
              <a:ext cx="1229760" cy="839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8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43200" y="95400"/>
            <a:ext cx="342900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EL ALIMENTO DE LAS PLANTA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1674720"/>
            <a:ext cx="8229600" cy="3888000"/>
            <a:chOff x="533520" y="1674720"/>
            <a:chExt cx="8229600" cy="388800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533520" y="1687680"/>
              <a:ext cx="821844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33520" y="1674720"/>
              <a:ext cx="8229600" cy="3886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15960" y="2922480"/>
            <a:ext cx="8051760" cy="593280"/>
            <a:chOff x="615960" y="2922480"/>
            <a:chExt cx="8051760" cy="593280"/>
          </a:xfrm>
        </p:grpSpPr>
        <p:sp>
          <p:nvSpPr>
            <p:cNvPr id="60" name=""/>
            <p:cNvSpPr/>
            <p:nvPr/>
          </p:nvSpPr>
          <p:spPr>
            <a:xfrm>
              <a:off x="615960" y="292248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ióxido de carbo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72080" y="293508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ióxido de carbo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022400" y="4630680"/>
            <a:ext cx="7365960" cy="580680"/>
            <a:chOff x="1022400" y="4630680"/>
            <a:chExt cx="7365960" cy="580680"/>
          </a:xfrm>
        </p:grpSpPr>
        <p:sp>
          <p:nvSpPr>
            <p:cNvPr id="63" name=""/>
            <p:cNvSpPr/>
            <p:nvPr/>
          </p:nvSpPr>
          <p:spPr>
            <a:xfrm>
              <a:off x="7092720" y="463068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ales mine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22400" y="46306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gu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06440" y="822240"/>
            <a:ext cx="1270080" cy="340560"/>
          </a:xfrm>
          <a:prstGeom prst="rect">
            <a:avLst/>
          </a:prstGeom>
          <a:solidFill>
            <a:srgbClr val="e4f5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LA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endCxn id="67" idx="1"/>
          </p:cNvCxnSpPr>
          <p:nvPr/>
        </p:nvCxnSpPr>
        <p:spPr>
          <a:xfrm flipV="1">
            <a:off x="1706040" y="889920"/>
            <a:ext cx="1189800" cy="83160"/>
          </a:xfrm>
          <a:prstGeom prst="curvedConnector5">
            <a:avLst>
              <a:gd name="adj1" fmla="val 49909"/>
              <a:gd name="adj2" fmla="val 50000"/>
              <a:gd name="adj3" fmla="val 49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 rot="12000">
            <a:off x="1752480" y="99072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man del 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895480" y="685800"/>
            <a:ext cx="5853240" cy="368280"/>
            <a:chOff x="2895480" y="685800"/>
            <a:chExt cx="5853240" cy="368280"/>
          </a:xfrm>
        </p:grpSpPr>
        <p:sp>
          <p:nvSpPr>
            <p:cNvPr id="67" name=""/>
            <p:cNvSpPr/>
            <p:nvPr/>
          </p:nvSpPr>
          <p:spPr>
            <a:xfrm>
              <a:off x="2895480" y="736560"/>
              <a:ext cx="5189040" cy="307800"/>
            </a:xfrm>
            <a:prstGeom prst="foldedCorner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95480" y="685800"/>
              <a:ext cx="585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as sustancias con las que forman sus alimen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43200" y="95400"/>
            <a:ext cx="342900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EL ALIMENTO DE LAS PLANTA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478320" y="1125360"/>
            <a:ext cx="5486400" cy="4460760"/>
            <a:chOff x="3478320" y="1125360"/>
            <a:chExt cx="5486400" cy="446076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3478320" y="1125360"/>
              <a:ext cx="5486400" cy="42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478320" y="5205240"/>
              <a:ext cx="54864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57200" y="3657600"/>
            <a:ext cx="2209680" cy="457200"/>
            <a:chOff x="457200" y="3657600"/>
            <a:chExt cx="2209680" cy="457200"/>
          </a:xfrm>
        </p:grpSpPr>
        <p:sp>
          <p:nvSpPr>
            <p:cNvPr id="76" name=""/>
            <p:cNvSpPr/>
            <p:nvPr/>
          </p:nvSpPr>
          <p:spPr>
            <a:xfrm>
              <a:off x="457200" y="3657600"/>
              <a:ext cx="2209680" cy="4572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373392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Agua + Sales miner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4581360"/>
            <a:ext cx="2286000" cy="457200"/>
            <a:chOff x="533520" y="4581360"/>
            <a:chExt cx="2286000" cy="457200"/>
          </a:xfrm>
        </p:grpSpPr>
        <p:sp>
          <p:nvSpPr>
            <p:cNvPr id="79" name=""/>
            <p:cNvSpPr/>
            <p:nvPr/>
          </p:nvSpPr>
          <p:spPr>
            <a:xfrm>
              <a:off x="533520" y="4581360"/>
              <a:ext cx="18288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800" y="46576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Pelos absorb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1" name=""/>
          <p:cNvCxnSpPr>
            <a:stCxn id="77" idx="2"/>
            <a:endCxn id="79" idx="0"/>
          </p:cNvCxnSpPr>
          <p:nvPr/>
        </p:nvCxnSpPr>
        <p:spPr>
          <a:xfrm rot="5400000">
            <a:off x="1251720" y="4233600"/>
            <a:ext cx="543600" cy="15300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9" idx="3"/>
            <a:endCxn id="83" idx="1"/>
          </p:cNvCxnSpPr>
          <p:nvPr/>
        </p:nvCxnSpPr>
        <p:spPr>
          <a:xfrm flipV="1">
            <a:off x="2361960" y="4725360"/>
            <a:ext cx="2066040" cy="84600"/>
          </a:xfrm>
          <a:prstGeom prst="curvedConnector5">
            <a:avLst>
              <a:gd name="adj1" fmla="val 49947"/>
              <a:gd name="adj2" fmla="val 50000"/>
              <a:gd name="adj3" fmla="val 499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4427640" y="4581360"/>
            <a:ext cx="14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13334" t="7077" r="5332" b="9436"/>
          <a:stretch/>
        </p:blipFill>
        <p:spPr>
          <a:xfrm>
            <a:off x="755640" y="5137200"/>
            <a:ext cx="144468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47640" y="1216080"/>
            <a:ext cx="1818000" cy="22842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250920" y="450720"/>
            <a:ext cx="1873080" cy="596520"/>
            <a:chOff x="250920" y="450720"/>
            <a:chExt cx="1873080" cy="596520"/>
          </a:xfrm>
        </p:grpSpPr>
        <p:sp>
          <p:nvSpPr>
            <p:cNvPr id="87" name=""/>
            <p:cNvSpPr/>
            <p:nvPr/>
          </p:nvSpPr>
          <p:spPr>
            <a:xfrm>
              <a:off x="250920" y="450720"/>
              <a:ext cx="1873080" cy="4572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5360" y="527040"/>
              <a:ext cx="1808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Dióxido de carbo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050920" y="981000"/>
            <a:ext cx="1297080" cy="457200"/>
            <a:chOff x="2050920" y="981000"/>
            <a:chExt cx="1297080" cy="457200"/>
          </a:xfrm>
        </p:grpSpPr>
        <p:sp>
          <p:nvSpPr>
            <p:cNvPr id="90" name=""/>
            <p:cNvSpPr/>
            <p:nvPr/>
          </p:nvSpPr>
          <p:spPr>
            <a:xfrm>
              <a:off x="2050920" y="981000"/>
              <a:ext cx="10375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37320" y="105732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Esto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2" name=""/>
          <p:cNvCxnSpPr>
            <a:stCxn id="88" idx="2"/>
            <a:endCxn id="90" idx="1"/>
          </p:cNvCxnSpPr>
          <p:nvPr/>
        </p:nvCxnSpPr>
        <p:spPr>
          <a:xfrm flipH="1" rot="16200000">
            <a:off x="1446840" y="605160"/>
            <a:ext cx="378360" cy="830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91" idx="3"/>
            <a:endCxn id="94" idx="1"/>
          </p:cNvCxnSpPr>
          <p:nvPr/>
        </p:nvCxnSpPr>
        <p:spPr>
          <a:xfrm>
            <a:off x="3347640" y="1209600"/>
            <a:ext cx="1151640" cy="348480"/>
          </a:xfrm>
          <a:prstGeom prst="curvedConnector5">
            <a:avLst>
              <a:gd name="adj1" fmla="val 49906"/>
              <a:gd name="adj2" fmla="val 49948"/>
              <a:gd name="adj3" fmla="val 49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498920" y="1413000"/>
            <a:ext cx="36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43200" y="95400"/>
            <a:ext cx="342900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A FOTOSÍN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1087560"/>
            <a:ext cx="8305920" cy="511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86200" y="37623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374976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es-ES_tradnl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s-ES_tradnl" sz="14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16520" y="374976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0" lang="es-ES_tradnl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26280" y="23652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s-ES_tradnl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6480" y="44607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Glúc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620640"/>
            <a:ext cx="78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ante la fotosíntesis las plantas fabrican materia orgánica en las hoj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37484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materias primas que necesitan las obtienen del su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440" y="165420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y del ai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518472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Las primeras sustancias que la planta elabora son azúc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19843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n el proceso se libera oxíg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743200" y="95400"/>
            <a:ext cx="342900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A FOTOSÍN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712960"/>
            <a:ext cx="172728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OTOSÍN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1098720"/>
            <a:ext cx="331308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óxido de carbono, agua y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1844640"/>
            <a:ext cx="2448000" cy="5806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ojas que tienen cloroplastos con clorof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050920" y="1844640"/>
            <a:ext cx="1224000" cy="431640"/>
            <a:chOff x="2050920" y="1844640"/>
            <a:chExt cx="1224000" cy="431640"/>
          </a:xfrm>
        </p:grpSpPr>
        <p:sp>
          <p:nvSpPr>
            <p:cNvPr id="112" name=""/>
            <p:cNvSpPr/>
            <p:nvPr/>
          </p:nvSpPr>
          <p:spPr>
            <a:xfrm>
              <a:off x="2050920" y="1844640"/>
              <a:ext cx="1224000" cy="43164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08000 h 431640"/>
                <a:gd name="textAreaBottom" fmla="*/ 324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3840" y="189396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cesi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419640" y="1047600"/>
            <a:ext cx="1657080" cy="580680"/>
            <a:chOff x="3419640" y="1047600"/>
            <a:chExt cx="1657080" cy="580680"/>
          </a:xfrm>
        </p:grpSpPr>
        <p:sp>
          <p:nvSpPr>
            <p:cNvPr id="115" name=""/>
            <p:cNvSpPr/>
            <p:nvPr/>
          </p:nvSpPr>
          <p:spPr>
            <a:xfrm>
              <a:off x="3419640" y="1047600"/>
              <a:ext cx="1591200" cy="57636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19640" y="104760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SUSTANCIAS INORGÁN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9640" y="1839960"/>
            <a:ext cx="2015640" cy="580680"/>
            <a:chOff x="3419640" y="1839960"/>
            <a:chExt cx="2015640" cy="580680"/>
          </a:xfrm>
        </p:grpSpPr>
        <p:sp>
          <p:nvSpPr>
            <p:cNvPr id="118" name=""/>
            <p:cNvSpPr/>
            <p:nvPr/>
          </p:nvSpPr>
          <p:spPr>
            <a:xfrm>
              <a:off x="3419640" y="1839960"/>
              <a:ext cx="1936080" cy="57636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19640" y="1839960"/>
              <a:ext cx="201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ÓRGANOS FOTOSINTÉT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419640" y="2703600"/>
            <a:ext cx="647640" cy="337320"/>
            <a:chOff x="3419640" y="2703600"/>
            <a:chExt cx="647640" cy="337320"/>
          </a:xfrm>
        </p:grpSpPr>
        <p:sp>
          <p:nvSpPr>
            <p:cNvPr id="121" name=""/>
            <p:cNvSpPr/>
            <p:nvPr/>
          </p:nvSpPr>
          <p:spPr>
            <a:xfrm>
              <a:off x="3419640" y="2703600"/>
              <a:ext cx="622080" cy="31752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19640" y="270360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LU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508720" y="2755800"/>
            <a:ext cx="208764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porciona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3738600"/>
            <a:ext cx="273672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Glúcidos, como el almid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4484520"/>
            <a:ext cx="2879640" cy="5806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utiliza en la respiración de todos los seres v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050920" y="4076640"/>
            <a:ext cx="1224000" cy="431640"/>
            <a:chOff x="2050920" y="4076640"/>
            <a:chExt cx="1224000" cy="431640"/>
          </a:xfrm>
        </p:grpSpPr>
        <p:sp>
          <p:nvSpPr>
            <p:cNvPr id="127" name=""/>
            <p:cNvSpPr/>
            <p:nvPr/>
          </p:nvSpPr>
          <p:spPr>
            <a:xfrm>
              <a:off x="2050920" y="4076640"/>
              <a:ext cx="1224000" cy="43164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08000 h 431640"/>
                <a:gd name="textAreaBottom" fmla="*/ 324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93840" y="4125960"/>
              <a:ext cx="93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419640" y="3687840"/>
            <a:ext cx="1657080" cy="580680"/>
            <a:chOff x="3419640" y="3687840"/>
            <a:chExt cx="1657080" cy="580680"/>
          </a:xfrm>
        </p:grpSpPr>
        <p:sp>
          <p:nvSpPr>
            <p:cNvPr id="130" name=""/>
            <p:cNvSpPr/>
            <p:nvPr/>
          </p:nvSpPr>
          <p:spPr>
            <a:xfrm>
              <a:off x="3419640" y="3687840"/>
              <a:ext cx="1591200" cy="57636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19640" y="368784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SUSTANCIAS ORGÁN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419640" y="4479840"/>
            <a:ext cx="1223640" cy="337320"/>
            <a:chOff x="3419640" y="4479840"/>
            <a:chExt cx="1223640" cy="337320"/>
          </a:xfrm>
        </p:grpSpPr>
        <p:sp>
          <p:nvSpPr>
            <p:cNvPr id="133" name=""/>
            <p:cNvSpPr/>
            <p:nvPr/>
          </p:nvSpPr>
          <p:spPr>
            <a:xfrm>
              <a:off x="3419640" y="4479840"/>
              <a:ext cx="1175040" cy="31572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19640" y="4479840"/>
              <a:ext cx="122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XÍGE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743200" y="95400"/>
            <a:ext cx="342900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A FOTOSÍN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658800"/>
            <a:ext cx="6913800" cy="585324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027240" y="2421000"/>
            <a:ext cx="1905120" cy="1191240"/>
            <a:chOff x="3027240" y="2421000"/>
            <a:chExt cx="1905120" cy="1191240"/>
          </a:xfrm>
        </p:grpSpPr>
        <p:sp>
          <p:nvSpPr>
            <p:cNvPr id="138" name=""/>
            <p:cNvSpPr/>
            <p:nvPr/>
          </p:nvSpPr>
          <p:spPr>
            <a:xfrm>
              <a:off x="3637080" y="2585880"/>
              <a:ext cx="129528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08480" y="2421000"/>
              <a:ext cx="9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27240" y="2585880"/>
              <a:ext cx="957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903840" y="2943360"/>
            <a:ext cx="380880" cy="48564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9600" y="2133720"/>
            <a:ext cx="1904760" cy="2135880"/>
            <a:chOff x="579600" y="2133720"/>
            <a:chExt cx="1904760" cy="2135880"/>
          </a:xfrm>
        </p:grpSpPr>
        <p:sp>
          <p:nvSpPr>
            <p:cNvPr id="143" name=""/>
            <p:cNvSpPr/>
            <p:nvPr/>
          </p:nvSpPr>
          <p:spPr>
            <a:xfrm>
              <a:off x="2103480" y="2819520"/>
              <a:ext cx="38088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58920" y="3962520"/>
              <a:ext cx="88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Esto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" name=""/>
            <p:cNvCxnSpPr>
              <a:stCxn id="144" idx="0"/>
              <a:endCxn id="143" idx="4"/>
            </p:cNvCxnSpPr>
            <p:nvPr/>
          </p:nvCxnSpPr>
          <p:spPr>
            <a:xfrm flipV="1">
              <a:off x="1703520" y="3047760"/>
              <a:ext cx="59112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579600" y="2133720"/>
              <a:ext cx="129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(Ai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46" idx="2"/>
              <a:endCxn id="143" idx="2"/>
            </p:cNvCxnSpPr>
            <p:nvPr/>
          </p:nvCxnSpPr>
          <p:spPr>
            <a:xfrm flipH="1" rot="16200000">
              <a:off x="1433520" y="2263320"/>
              <a:ext cx="464040" cy="876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48" name=""/>
          <p:cNvCxnSpPr>
            <a:stCxn id="143" idx="7"/>
            <a:endCxn id="138" idx="0"/>
          </p:cNvCxnSpPr>
          <p:nvPr/>
        </p:nvCxnSpPr>
        <p:spPr>
          <a:xfrm flipH="1" flipV="1" rot="5400000">
            <a:off x="3223080" y="1790640"/>
            <a:ext cx="267120" cy="1856520"/>
          </a:xfrm>
          <a:prstGeom prst="curvedConnector5">
            <a:avLst>
              <a:gd name="adj1" fmla="val 185829"/>
              <a:gd name="adj2" fmla="val 50000"/>
              <a:gd name="adj3" fmla="val 1858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4075920" y="289872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Clorof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958640" y="1257480"/>
            <a:ext cx="3313800" cy="1818360"/>
            <a:chOff x="4958640" y="1257480"/>
            <a:chExt cx="3313800" cy="1818360"/>
          </a:xfrm>
        </p:grpSpPr>
        <p:cxnSp>
          <p:nvCxnSpPr>
            <p:cNvPr id="151" name=""/>
            <p:cNvCxnSpPr>
              <a:stCxn id="152" idx="1"/>
              <a:endCxn id="149" idx="3"/>
            </p:cNvCxnSpPr>
            <p:nvPr/>
          </p:nvCxnSpPr>
          <p:spPr>
            <a:xfrm flipV="1" rot="10800000">
              <a:off x="4958640" y="2018160"/>
              <a:ext cx="1942200" cy="1058040"/>
            </a:xfrm>
            <a:prstGeom prst="curvedConnector5">
              <a:avLst>
                <a:gd name="adj1" fmla="val 49944"/>
                <a:gd name="adj2" fmla="val 50000"/>
                <a:gd name="adj3" fmla="val 49944"/>
              </a:avLst>
            </a:prstGeom>
            <a:ln w="44280">
              <a:solidFill>
                <a:srgbClr val="ffcc00"/>
              </a:solidFill>
              <a:miter/>
              <a:tailEnd len="lg" type="stealth" w="lg"/>
            </a:ln>
          </p:spPr>
        </p:cxnSp>
        <p:sp>
          <p:nvSpPr>
            <p:cNvPr id="153" name=""/>
            <p:cNvSpPr/>
            <p:nvPr/>
          </p:nvSpPr>
          <p:spPr>
            <a:xfrm>
              <a:off x="6443640" y="1257480"/>
              <a:ext cx="1828800" cy="152388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02280" y="186696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Luz so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492360" y="3429000"/>
            <a:ext cx="2463480" cy="1343520"/>
            <a:chOff x="3492360" y="3429000"/>
            <a:chExt cx="2463480" cy="1343520"/>
          </a:xfrm>
        </p:grpSpPr>
        <p:sp>
          <p:nvSpPr>
            <p:cNvPr id="155" name=""/>
            <p:cNvSpPr/>
            <p:nvPr/>
          </p:nvSpPr>
          <p:spPr>
            <a:xfrm>
              <a:off x="3492360" y="3581280"/>
              <a:ext cx="1466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MATERIA ORGÁNI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72240" y="3584520"/>
              <a:ext cx="108360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89560" y="3429000"/>
              <a:ext cx="1083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703520" y="2924280"/>
            <a:ext cx="1712880" cy="2437920"/>
            <a:chOff x="1703520" y="2924280"/>
            <a:chExt cx="1712880" cy="2437920"/>
          </a:xfrm>
        </p:grpSpPr>
        <p:sp>
          <p:nvSpPr>
            <p:cNvPr id="159" name=""/>
            <p:cNvSpPr/>
            <p:nvPr/>
          </p:nvSpPr>
          <p:spPr>
            <a:xfrm>
              <a:off x="1703520" y="5025960"/>
              <a:ext cx="1052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AÍZ (H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"/>
            <p:cNvCxnSpPr>
              <a:stCxn id="159" idx="0"/>
            </p:cNvCxnSpPr>
            <p:nvPr/>
          </p:nvCxnSpPr>
          <p:spPr>
            <a:xfrm flipH="1" flipV="1" rot="5400000">
              <a:off x="1922400" y="3531960"/>
              <a:ext cx="2102040" cy="8866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743200" y="95400"/>
            <a:ext cx="342900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TRANSPORTE EN LA PL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17880" y="685800"/>
            <a:ext cx="3220920" cy="449568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1143000" y="1219320"/>
            <a:ext cx="2133720" cy="3429000"/>
            <a:chOff x="1143000" y="1219320"/>
            <a:chExt cx="2133720" cy="3429000"/>
          </a:xfrm>
        </p:grpSpPr>
        <p:sp>
          <p:nvSpPr>
            <p:cNvPr id="164" name=""/>
            <p:cNvSpPr/>
            <p:nvPr/>
          </p:nvSpPr>
          <p:spPr>
            <a:xfrm>
              <a:off x="1143000" y="1219320"/>
              <a:ext cx="2133720" cy="3429000"/>
            </a:xfrm>
            <a:prstGeom prst="upArrow">
              <a:avLst>
                <a:gd name="adj1" fmla="val 50000"/>
                <a:gd name="adj2" fmla="val 401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189200">
              <a:off x="706320" y="2364480"/>
              <a:ext cx="3124440" cy="9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Vasos leños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Savia bruta (H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O + sal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De la raíz hacia las hoj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019920" y="990720"/>
            <a:ext cx="2361960" cy="4647960"/>
            <a:chOff x="6019920" y="990720"/>
            <a:chExt cx="2361960" cy="4647960"/>
          </a:xfrm>
        </p:grpSpPr>
        <p:sp>
          <p:nvSpPr>
            <p:cNvPr id="167" name=""/>
            <p:cNvSpPr/>
            <p:nvPr/>
          </p:nvSpPr>
          <p:spPr>
            <a:xfrm>
              <a:off x="6019920" y="990720"/>
              <a:ext cx="2361960" cy="4647960"/>
            </a:xfrm>
            <a:prstGeom prst="downArrow">
              <a:avLst>
                <a:gd name="adj1" fmla="val 50000"/>
                <a:gd name="adj2" fmla="val 4919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189200">
              <a:off x="5402880" y="2342160"/>
              <a:ext cx="36561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Vasos liberian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Savia elaborada (sustancias orgánic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De las hojas hacia toda la plan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27280" y="95400"/>
            <a:ext cx="3673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ESPIRACIÓN EN LAS PLA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28600" y="765000"/>
            <a:ext cx="8686800" cy="360360"/>
            <a:chOff x="228600" y="765000"/>
            <a:chExt cx="8686800" cy="360360"/>
          </a:xfrm>
        </p:grpSpPr>
        <p:sp>
          <p:nvSpPr>
            <p:cNvPr id="171" name=""/>
            <p:cNvSpPr/>
            <p:nvPr/>
          </p:nvSpPr>
          <p:spPr>
            <a:xfrm>
              <a:off x="250920" y="765000"/>
              <a:ext cx="856908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" y="765000"/>
              <a:ext cx="86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00"/>
                  </a:solidFill>
                  <a:latin typeface="Arial"/>
                </a:rPr>
                <a:t>Las plantas respiran constantemente absorbiendo oxígeno y expulsando dióxido de carbon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04920" y="1235160"/>
            <a:ext cx="5029200" cy="609480"/>
            <a:chOff x="304920" y="1235160"/>
            <a:chExt cx="5029200" cy="609480"/>
          </a:xfrm>
        </p:grpSpPr>
        <p:sp>
          <p:nvSpPr>
            <p:cNvPr id="174" name=""/>
            <p:cNvSpPr/>
            <p:nvPr/>
          </p:nvSpPr>
          <p:spPr>
            <a:xfrm>
              <a:off x="324000" y="1268280"/>
              <a:ext cx="4824360" cy="576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920" y="1235160"/>
              <a:ext cx="502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n la fotosíntesis, que realizan en presencia de luz, absorben dióxido de carbono y producen oxígeno</a:t>
              </a:r>
              <a:r>
                <a:rPr b="0" lang="es-ES_tradnl" sz="1600" spc="-1" strike="noStrike">
                  <a:solidFill>
                    <a:srgbClr val="003366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03040" y="2263680"/>
            <a:ext cx="4389480" cy="3641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89640" y="2263680"/>
            <a:ext cx="4389120" cy="3641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19520" y="230184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740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466416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78240" y="54165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54133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óxido de carb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322884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tosínt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8720" y="36226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pi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622680"/>
            <a:ext cx="12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pi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10360" y="54640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pi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03240" y="5477040"/>
            <a:ext cx="12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pi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7840" y="519732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xíg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53044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xíg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428292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xíg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5197320"/>
            <a:ext cx="93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xíg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253044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xíg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627280" y="42840"/>
            <a:ext cx="36003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SPIRACIÓN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836640"/>
            <a:ext cx="122400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LA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836640"/>
            <a:ext cx="302436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abrican sustancias orgán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2541600"/>
            <a:ext cx="129564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IM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2541600"/>
            <a:ext cx="3024000" cy="5806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btienen las sustancias orgánicas de los ali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0395800">
            <a:off x="898200" y="1341000"/>
            <a:ext cx="431640" cy="503280"/>
          </a:xfrm>
          <a:custGeom>
            <a:avLst/>
            <a:gdLst>
              <a:gd name="textAreaLeft" fmla="*/ 57600 w 431640"/>
              <a:gd name="textAreaRight" fmla="*/ 374040 w 43164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1712000">
            <a:off x="897840" y="1773000"/>
            <a:ext cx="431640" cy="576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690560" y="1557360"/>
            <a:ext cx="2808000" cy="580680"/>
            <a:chOff x="1690560" y="1557360"/>
            <a:chExt cx="2808000" cy="580680"/>
          </a:xfrm>
        </p:grpSpPr>
        <p:sp>
          <p:nvSpPr>
            <p:cNvPr id="201" name=""/>
            <p:cNvSpPr/>
            <p:nvPr/>
          </p:nvSpPr>
          <p:spPr>
            <a:xfrm>
              <a:off x="1690560" y="1557360"/>
              <a:ext cx="2696760" cy="57636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0560" y="1557360"/>
              <a:ext cx="280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Absorben oxígeno y liberan dióxido de carbo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812560" y="912240"/>
            <a:ext cx="2433960" cy="1579320"/>
            <a:chOff x="5812560" y="912240"/>
            <a:chExt cx="2433960" cy="1579320"/>
          </a:xfrm>
        </p:grpSpPr>
        <p:sp>
          <p:nvSpPr>
            <p:cNvPr id="204" name=""/>
            <p:cNvSpPr/>
            <p:nvPr/>
          </p:nvSpPr>
          <p:spPr>
            <a:xfrm rot="444600">
              <a:off x="5886360" y="1054080"/>
              <a:ext cx="2286000" cy="1295280"/>
            </a:xfrm>
            <a:prstGeom prst="irregularSeal2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82520" y="1355760"/>
              <a:ext cx="119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¿PARA QUÉ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12000" y="2349360"/>
            <a:ext cx="2376000" cy="936720"/>
            <a:chOff x="6012000" y="2349360"/>
            <a:chExt cx="2376000" cy="936720"/>
          </a:xfrm>
        </p:grpSpPr>
        <p:sp>
          <p:nvSpPr>
            <p:cNvPr id="207" name="Cloud"/>
            <p:cNvSpPr/>
            <p:nvPr/>
          </p:nvSpPr>
          <p:spPr>
            <a:xfrm>
              <a:off x="6012000" y="2349360"/>
              <a:ext cx="1755720" cy="9367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77320" y="2480760"/>
              <a:ext cx="211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ara obtener energ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622600" y="4095720"/>
            <a:ext cx="2895480" cy="20574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470320" y="5483160"/>
            <a:ext cx="1842840" cy="1191240"/>
            <a:chOff x="2470320" y="5483160"/>
            <a:chExt cx="1842840" cy="1191240"/>
          </a:xfrm>
        </p:grpSpPr>
        <p:sp>
          <p:nvSpPr>
            <p:cNvPr id="211" name=""/>
            <p:cNvSpPr/>
            <p:nvPr/>
          </p:nvSpPr>
          <p:spPr>
            <a:xfrm>
              <a:off x="2960640" y="5483160"/>
              <a:ext cx="9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70320" y="5665680"/>
              <a:ext cx="129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5920" y="5654520"/>
              <a:ext cx="9572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659040" y="4781520"/>
            <a:ext cx="0" cy="83808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90120" y="3575160"/>
            <a:ext cx="239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ESPIRACIÓN CEL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765600" y="5495760"/>
            <a:ext cx="2438280" cy="1191240"/>
            <a:chOff x="3765600" y="5495760"/>
            <a:chExt cx="2438280" cy="1191240"/>
          </a:xfrm>
        </p:grpSpPr>
        <p:sp>
          <p:nvSpPr>
            <p:cNvPr id="217" name=""/>
            <p:cNvSpPr/>
            <p:nvPr/>
          </p:nvSpPr>
          <p:spPr>
            <a:xfrm>
              <a:off x="3799080" y="5495760"/>
              <a:ext cx="9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65600" y="566424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747880" y="4187880"/>
            <a:ext cx="2768400" cy="1191240"/>
            <a:chOff x="2747880" y="4187880"/>
            <a:chExt cx="2768400" cy="1191240"/>
          </a:xfrm>
        </p:grpSpPr>
        <p:sp>
          <p:nvSpPr>
            <p:cNvPr id="220" name=""/>
            <p:cNvSpPr/>
            <p:nvPr/>
          </p:nvSpPr>
          <p:spPr>
            <a:xfrm>
              <a:off x="3025440" y="4187880"/>
              <a:ext cx="133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7880" y="4368960"/>
              <a:ext cx="851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12760" y="4352760"/>
              <a:ext cx="170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M. ÓRGA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434960" y="5446800"/>
            <a:ext cx="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6600" y="476424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ara crecer, reproducirse, mantener su temperatura, moverse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8" idx="0"/>
            <a:endCxn id="224" idx="1"/>
          </p:cNvCxnSpPr>
          <p:nvPr/>
        </p:nvCxnSpPr>
        <p:spPr>
          <a:xfrm flipH="1" flipV="1" rot="5400000">
            <a:off x="5206680" y="4954320"/>
            <a:ext cx="488160" cy="932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95280" y="4005360"/>
            <a:ext cx="18162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4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44:10Z</dcterms:created>
  <dc:creator>alberto</dc:creator>
  <dc:description/>
  <dc:language>en-US</dc:language>
  <cp:lastModifiedBy>Alberto</cp:lastModifiedBy>
  <dcterms:modified xsi:type="dcterms:W3CDTF">2008-10-17T09:10:39Z</dcterms:modified>
  <cp:revision>62</cp:revision>
  <dc:subject/>
  <dc:title>Diapositiva 1</dc:title>
</cp:coreProperties>
</file>